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A61-331C-4F84-B0A3-C61CCA74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CFC-92A7-46B8-AAA4-96C52B3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198-79AB-475F-A4C5-C5DC4255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897-42EF-4704-84EF-60AE96F1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DA9-20DD-4BD1-80B4-3BF59676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338-5D23-4E7A-8097-1942A2B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C68-E71D-4A21-9618-E1E3CA0F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7E9-E237-4747-AAEB-AC2B59F6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A3D-02F7-40DD-83A2-60DB1521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BA3-F100-437B-893B-14D5B9BC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0A1-CF0C-4B17-B285-54E125E4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FAC-BF9E-4BBF-A022-57D6C76E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0278-D6F2-4D3C-8A83-055BB3F19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应当怎样做儿女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22" b="-48"/>
          <a:stretch/>
        </p:blipFill>
        <p:spPr>
          <a:xfrm>
            <a:off x="0" y="0"/>
            <a:ext cx="6553080" cy="551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5151240" y="1956960"/>
            <a:ext cx="5257800" cy="164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青春与感恩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81840" cy="6705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5522760" y="685800"/>
            <a:ext cx="3621240" cy="5559480"/>
            <a:chOff x="5522760" y="685800"/>
            <a:chExt cx="3621240" cy="5559480"/>
          </a:xfrm>
        </p:grpSpPr>
        <p:sp>
          <p:nvSpPr>
            <p:cNvPr id="79" name=""/>
            <p:cNvSpPr/>
            <p:nvPr/>
          </p:nvSpPr>
          <p:spPr>
            <a:xfrm>
              <a:off x="5522760" y="685800"/>
              <a:ext cx="3621240" cy="555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22760" y="685800"/>
              <a:ext cx="3621240" cy="555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命运没有对我不公，我要感谢妈妈，她让我懂得了怎么做人。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38080" y="380880"/>
            <a:ext cx="8000640" cy="1981080"/>
            <a:chOff x="838080" y="380880"/>
            <a:chExt cx="8000640" cy="1981080"/>
          </a:xfrm>
        </p:grpSpPr>
        <p:sp>
          <p:nvSpPr>
            <p:cNvPr id="82" name=""/>
            <p:cNvSpPr/>
            <p:nvPr/>
          </p:nvSpPr>
          <p:spPr>
            <a:xfrm>
              <a:off x="838080" y="380880"/>
              <a:ext cx="8000640" cy="19810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380880"/>
              <a:ext cx="8000640" cy="19810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暗下决心　有钱就捐肾救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对儿子所做的一切，陆永敏深情地说说：“儿子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岁时曾说，妈妈，长大以后，我养活你……你看，没几年，他真的就这样做了。现在，我像孩子他像妈妈，照顾别人比成年人都细心。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刘霆说，妈妈这半辈子做了不少的衣服，可到头来，自己没有一件像样的衣服，他用打工挣的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元给妈妈买了一件玫瑰色的衣服。不过，这件衣服也让陆永敏心潮起伏。“我生病以后，没钱给孩子买衣服。四年前，我用旧毛线给他织了一件高领毛衣，他年年冬天都穿它。他说，妈妈，你织的毛衣，我喜欢穿”，陆永敏说。不过，这位感到极大安慰的母亲还不知道，此时刘霆心里还有个计划：等他大学毕业赚了足够的钱，他就要捐一个肾给妈妈，真正做到和妈妈永远在一起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80880" y="457200"/>
            <a:ext cx="8534160" cy="2895480"/>
            <a:chOff x="380880" y="457200"/>
            <a:chExt cx="8534160" cy="2895480"/>
          </a:xfrm>
        </p:grpSpPr>
        <p:sp>
          <p:nvSpPr>
            <p:cNvPr id="85" name=""/>
            <p:cNvSpPr/>
            <p:nvPr/>
          </p:nvSpPr>
          <p:spPr>
            <a:xfrm>
              <a:off x="380880" y="457200"/>
              <a:ext cx="8534160" cy="2895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0880" y="457200"/>
              <a:ext cx="8534160" cy="2895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生机    找到合适肾源啦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在本报记者赶往采访刘霆背母亲上大学的故事后，这段母子情深的故事已经由当地媒体报道后，引起全国各地的极大反响。热心人士共捐出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万元给这对患难中的母子做肾移植手术。刘霆一听高兴了：“我要换肾给妈妈！”此言一出，陆永敏吓坏了：我怎么能要儿子的肾？她坚决不同意。幸好，医院又及时找到别的肾源。但是，因为儿子曾经说过要捐肾，陆永敏非常担心：万一我上了麻醉药，换给我的肾脏仍旧是孩子的，那怎么办？她仍旧不同意手术。经过医生和刘霆的反复解释，这位妈妈才接受手术。终于，肾移植手术定于今年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日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惊险   术后一度发生排异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手术第三天，陆永敏出现急性排异反应，昏迷不醒。经过抢救，当急性排异被控制后，陆永敏转到一般病床，刘霆从早到晚守在妈妈身边。但是，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日，大年初一，陆永敏病情又有反复，这次情况更严重。她陷入昏迷，神志不清。偶尔醒来后，失去理智要打人，还出现幻觉。直到大年初三的早上，她才睁开了眼睛，她看见儿子跪在床边，她听见他说：“妈妈，你醒过来了。”这时，刘霆跪在妈妈的拖鞋上，已经两天两夜了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也许是孝心真的能感动上苍，陆永敏一天比一天好起来了，刘霆在病房里高兴地说：“妈妈，我要跳起来了！”尽管虚弱，陆永敏叫儿子扶她坐起来，她看到窗外一棵绿色的小树，觉得这个世界是那么的美好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103400" y="1828800"/>
            <a:ext cx="6939000" cy="3200400"/>
            <a:chOff x="1103400" y="1828800"/>
            <a:chExt cx="6939000" cy="3200400"/>
          </a:xfrm>
        </p:grpSpPr>
        <p:sp>
          <p:nvSpPr>
            <p:cNvPr id="88" name=""/>
            <p:cNvSpPr/>
            <p:nvPr/>
          </p:nvSpPr>
          <p:spPr>
            <a:xfrm>
              <a:off x="1103400" y="1828800"/>
              <a:ext cx="6939000" cy="32004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03400" y="1828800"/>
              <a:ext cx="6939000" cy="32004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0" lang="zh-CN" sz="19400" spc="-1" strike="noStrike">
                  <a:solidFill>
                    <a:srgbClr val="0000ff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391520" cy="4989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371600" y="5638680"/>
            <a:ext cx="6939000" cy="609480"/>
            <a:chOff x="1371600" y="5638680"/>
            <a:chExt cx="6939000" cy="609480"/>
          </a:xfrm>
        </p:grpSpPr>
        <p:sp>
          <p:nvSpPr>
            <p:cNvPr id="92" name=""/>
            <p:cNvSpPr/>
            <p:nvPr/>
          </p:nvSpPr>
          <p:spPr>
            <a:xfrm>
              <a:off x="1371600" y="563868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563868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手术成功了，妈妈终于渡过难关。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914400" y="838080"/>
            <a:ext cx="6939000" cy="1219320"/>
            <a:chOff x="914400" y="838080"/>
            <a:chExt cx="6939000" cy="1219320"/>
          </a:xfrm>
        </p:grpSpPr>
        <p:sp>
          <p:nvSpPr>
            <p:cNvPr id="95" name=""/>
            <p:cNvSpPr/>
            <p:nvPr/>
          </p:nvSpPr>
          <p:spPr>
            <a:xfrm>
              <a:off x="914400" y="838080"/>
              <a:ext cx="6939000" cy="12193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838080"/>
              <a:ext cx="6939000" cy="12193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尾声       用捐款成立孝心基金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　　从医院里出来，陆永敏现在在上海浦东一个热心人家中疗养。身上没什么不舒服，就是时常觉得累，每天要吃抗排斥的药。再过一个多月，她就会再回到浙江林学院，和儿子生活在一起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　　热心人捐的钱暂时用不完，刘霆将捐款中的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万元重新捐献出来，在学校设立了一个孝心基金，他说要把这些钱交给学校，由学校奖给学校里那些有爱心、孝心和感恩之心且同样需要帮助的同学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103400" y="1859040"/>
            <a:ext cx="6939000" cy="3139920"/>
            <a:chOff x="1103400" y="1859040"/>
            <a:chExt cx="6939000" cy="3139920"/>
          </a:xfrm>
        </p:grpSpPr>
        <p:sp>
          <p:nvSpPr>
            <p:cNvPr id="98" name=""/>
            <p:cNvSpPr/>
            <p:nvPr/>
          </p:nvSpPr>
          <p:spPr>
            <a:xfrm>
              <a:off x="1103400" y="1859040"/>
              <a:ext cx="6939000" cy="31399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03400" y="1859040"/>
              <a:ext cx="6939000" cy="31399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0" lang="zh-CN" sz="19000" spc="-1" strike="noStrike">
                  <a:solidFill>
                    <a:srgbClr val="0000ff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49467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90720" y="5562720"/>
            <a:ext cx="6939000" cy="609480"/>
            <a:chOff x="990720" y="5562720"/>
            <a:chExt cx="6939000" cy="609480"/>
          </a:xfrm>
        </p:grpSpPr>
        <p:sp>
          <p:nvSpPr>
            <p:cNvPr id="102" name=""/>
            <p:cNvSpPr/>
            <p:nvPr/>
          </p:nvSpPr>
          <p:spPr>
            <a:xfrm>
              <a:off x="990720" y="556272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0720" y="556272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设立基金，帮助有需要的人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09480" y="457200"/>
            <a:ext cx="6939000" cy="609480"/>
            <a:chOff x="609480" y="457200"/>
            <a:chExt cx="6939000" cy="609480"/>
          </a:xfrm>
        </p:grpSpPr>
        <p:sp>
          <p:nvSpPr>
            <p:cNvPr id="105" name=""/>
            <p:cNvSpPr/>
            <p:nvPr/>
          </p:nvSpPr>
          <p:spPr>
            <a:xfrm>
              <a:off x="609480" y="45720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5720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“</a:t>
              </a:r>
              <a:r>
                <a:rPr b="1" i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孝”是中国文化最深层最根本的基因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1447920"/>
            <a:ext cx="8305560" cy="1371600"/>
            <a:chOff x="609480" y="1447920"/>
            <a:chExt cx="8305560" cy="1371600"/>
          </a:xfrm>
        </p:grpSpPr>
        <p:sp>
          <p:nvSpPr>
            <p:cNvPr id="108" name=""/>
            <p:cNvSpPr/>
            <p:nvPr/>
          </p:nvSpPr>
          <p:spPr>
            <a:xfrm>
              <a:off x="609480" y="1447920"/>
              <a:ext cx="8305560" cy="13716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1447920"/>
              <a:ext cx="8305560" cy="13716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些地方规定不孝者不能升职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孝在古代中国，是一个涉及子女对父母、晚辈对长辈的伦理道德规范。孔子曾有“孝悌也者，其为人之本矣”的名言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年四川省颁布规定，要求各级组织、人事部门把尊老敬老作为考核干部的内容，对党员干部中不履行赡养义务，甚至虐待、遗弃父母、长辈的，一律不予提拔任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年，河南洛阳市有关部门也联合发文，要求把尊老敬老作为每年考核、提拔、任用党员干部的一项重要内容和依据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80880" y="304920"/>
            <a:ext cx="8076960" cy="1066680"/>
            <a:chOff x="380880" y="304920"/>
            <a:chExt cx="8076960" cy="1066680"/>
          </a:xfrm>
        </p:grpSpPr>
        <p:sp>
          <p:nvSpPr>
            <p:cNvPr id="111" name=""/>
            <p:cNvSpPr/>
            <p:nvPr/>
          </p:nvSpPr>
          <p:spPr>
            <a:xfrm>
              <a:off x="380880" y="304920"/>
              <a:ext cx="8076960" cy="10666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304920"/>
              <a:ext cx="8076960" cy="10666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相当部分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年代出生的独生子女情感淡漠，对父母只知索取，不知感激，更遑论回报，因为考试不过关、生活不习惯、寻找工作压力大这些“理由”而放弃生命者也大有人在。他认为人们有必要自省———抚育子女是父母义务，孝敬父母同样是子女的义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zh-CN" sz="3200" spc="-1" strike="noStrike">
                  <a:solidFill>
                    <a:srgbClr val="3333cc"/>
                  </a:solidFill>
                  <a:latin typeface="Times New Roman"/>
                </a:rPr>
                <a:t>为人子女，应常思父母养育之恩，给予物质上的扶助和精神上的慰藉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zh-CN" sz="3200" spc="-1" strike="noStrike">
                  <a:solidFill>
                    <a:srgbClr val="3333cc"/>
                  </a:solidFill>
                  <a:latin typeface="Times New Roman"/>
                </a:rPr>
                <a:t>为人父母，不仅要尽心抚育孩子，还应培育他们的感激之心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3640" cy="762120"/>
            <a:chOff x="0" y="0"/>
            <a:chExt cx="9143640" cy="76212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3640" cy="7621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3640" cy="7621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有一些事情，当我们年轻的时候，无法懂得，当我们懂得的时候，已不再年轻。无忧无虑的我们，有多少人为父母考虑过什么？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8600" y="2666880"/>
            <a:ext cx="8610120" cy="762120"/>
            <a:chOff x="228600" y="2666880"/>
            <a:chExt cx="8610120" cy="762120"/>
          </a:xfrm>
        </p:grpSpPr>
        <p:sp>
          <p:nvSpPr>
            <p:cNvPr id="117" name=""/>
            <p:cNvSpPr/>
            <p:nvPr/>
          </p:nvSpPr>
          <p:spPr>
            <a:xfrm>
              <a:off x="228600" y="2666880"/>
              <a:ext cx="8610120" cy="7621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2666880"/>
              <a:ext cx="8610120" cy="7621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父母年纪大了，也许有些观念或生活习惯与新一代不太一致，但也不该跟父母计较他们的过失，应该多想想他们曾经为自己付出的，为自己做的努力，不能嫌弃他们的老化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!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我一直觉得———子女是风筝，线的那一端永远是父母。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09480" y="533520"/>
            <a:ext cx="8229240" cy="761760"/>
            <a:chOff x="609480" y="533520"/>
            <a:chExt cx="8229240" cy="761760"/>
          </a:xfrm>
        </p:grpSpPr>
        <p:sp>
          <p:nvSpPr>
            <p:cNvPr id="120" name=""/>
            <p:cNvSpPr/>
            <p:nvPr/>
          </p:nvSpPr>
          <p:spPr>
            <a:xfrm>
              <a:off x="609480" y="533520"/>
              <a:ext cx="8229240" cy="7617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533520"/>
              <a:ext cx="8229240" cy="7617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学生们向刘霆学习的，应是一颗对父母感恩的心，而不是要等到父母病重时才来尽孝。”没有经历过苦难的城市孩子，一样可以在日常生活中尽到对父母的心意，我们每个人都能成为“刘霆”。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9480" y="3886200"/>
            <a:ext cx="8229240" cy="609480"/>
            <a:chOff x="609480" y="3886200"/>
            <a:chExt cx="8229240" cy="609480"/>
          </a:xfrm>
        </p:grpSpPr>
        <p:sp>
          <p:nvSpPr>
            <p:cNvPr id="123" name=""/>
            <p:cNvSpPr/>
            <p:nvPr/>
          </p:nvSpPr>
          <p:spPr>
            <a:xfrm>
              <a:off x="609480" y="3886200"/>
              <a:ext cx="822924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3886200"/>
              <a:ext cx="822924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待父母好，说明你的本性纯良，没有泯灭自己的赤子之心；待父母不好，说明你已经变了，变得没心没肝，迷失本性了。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09480" y="0"/>
            <a:ext cx="8229240" cy="2133720"/>
            <a:chOff x="609480" y="0"/>
            <a:chExt cx="8229240" cy="2133720"/>
          </a:xfrm>
        </p:grpSpPr>
        <p:sp>
          <p:nvSpPr>
            <p:cNvPr id="45" name=""/>
            <p:cNvSpPr/>
            <p:nvPr/>
          </p:nvSpPr>
          <p:spPr>
            <a:xfrm>
              <a:off x="609480" y="0"/>
              <a:ext cx="8229240" cy="21337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0"/>
              <a:ext cx="8229240" cy="21337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舍得吃     儿子饿成胃出血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在陆永敏患病的日子，最让她放心不下的就是儿子刘霆：“他是我气血不足时生下的孩子，因此他总是手脚冰凉、气血不旺，我真希望他能吃饱一点。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可是懂事的刘霆却坚持把钱留给妈妈治病，自己根本不舍得多吃。他每顿只打二两饭，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份的青菜。饿了，他就忍一忍，或喝点水充饥。终于有天，他的胃剧烈地痛起来，突然大口大口地吐了不少黑血。原来，这个孩子已经把自己饿成了胃出血。可面对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元的检查费，他一声不吭就放弃了检查和治疗。太贵了，他舍不得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了儿子   妈妈咬牙苦撑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陆永敏的病一天比一天严重，药也断了。她在记事本上写着：“我要枯萎了，没有人能救我。”她曾经想过离家出走，“死在哪儿算哪儿了”。但这时刘霆正准备高考。为了孩子，她犹豫了：“我要是走了，会影响他考大学的呀”。在陆永敏的记事簿上，记者看见有刘霆写给妈妈的一段话：“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妈妈……在你最需要我的时候，在最困难的时候，我们永远在一起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”于是陆永敏决定熬下去，一定要熬到儿子考上大学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走近父母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向父母表达你爱他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主动承担家务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纪念日、节日送点小礼物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遇特别情况写一封信表达感激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适时为父母倒杯茶、削个水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和父母有分歧时学会换位思考，站在父母的角度上去想一想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应让父母感觉你相信他们，多交流并经常给予赞美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向父母说说自己的情况，自己的愿望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倾听父母的话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遇上烦恼，告诉父母，寻求父母的帮助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回家和外出主动给父母打招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时时紧记，父母只会爱孩子，决不会害孩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i="1" lang="zh-CN" sz="2800" spc="-1" strike="noStrike">
                <a:solidFill>
                  <a:srgbClr val="cc0000"/>
                </a:solidFill>
                <a:latin typeface="_x000b__x000c_"/>
              </a:rPr>
              <a:t>只要能理解、孝敬、尊重父母，你就和父母走近了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7364520"/>
            <a:chOff x="0" y="0"/>
            <a:chExt cx="9144000" cy="73645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11280" y="260280"/>
              <a:ext cx="3529080" cy="71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华文彩云"/>
                  <a:ea typeface="华文彩云"/>
                </a:rPr>
                <a:t>真的爱你 – </a:t>
              </a:r>
              <a:r>
                <a:rPr b="1" lang="zh-CN" sz="2800" spc="-1" strike="noStrike">
                  <a:solidFill>
                    <a:srgbClr val="800080"/>
                  </a:solidFill>
                  <a:latin typeface="华文彩云"/>
                  <a:ea typeface="华文彩云"/>
                </a:rPr>
                <a:t>beyo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无法可修饰的一对手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带出温暖永远在背后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纵使罗嗦始终关注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不懂珍惜太内疚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沉醉于音阶她不赞赏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母亲的爱却永未退让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决心冲开心中挣扎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亲恩总可报答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春风化雨暖透我的心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一生眷顾无言地送赠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是你多么温馨的目光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教我坚毅望着前路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叮嘱我跌倒不应放弃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没法解释怎可报尽亲恩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爱意宽大是无限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请准我说声真的爱你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0720" y="765000"/>
              <a:ext cx="395892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无法可修饰的一对手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带出温暖永远在背后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纵使罗嗦始终关注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不懂珍惜太内疚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仍记起温馨的一对手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始终给我照顾未变样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理想今天终于等到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分享光辉盼做到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*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春风化雨暖透我的心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一生眷顾无言地送赠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是你多么温馨的目光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教我坚毅望着前路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叮嘱我跌倒不应放弃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没法解释怎可报尽亲恩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爱意宽大是无限</a:t>
              </a:r>
              <a:br>
                <a:rPr sz="2400"/>
              </a:b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请准我说声真的爱你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85800" y="380880"/>
            <a:ext cx="8076960" cy="2971440"/>
            <a:chOff x="685800" y="380880"/>
            <a:chExt cx="8076960" cy="2971440"/>
          </a:xfrm>
        </p:grpSpPr>
        <p:sp>
          <p:nvSpPr>
            <p:cNvPr id="48" name=""/>
            <p:cNvSpPr/>
            <p:nvPr/>
          </p:nvSpPr>
          <p:spPr>
            <a:xfrm>
              <a:off x="685800" y="380880"/>
              <a:ext cx="8076960" cy="29714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380880"/>
              <a:ext cx="8076960" cy="29714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带着妈妈住校外　决心妈妈在哪家就在哪儿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勇敢决定　边上大学边照顾母亲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去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日，刘霆在高考结束后，他点算了从过去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年从生活费里省下来的钱，一共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68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元。他说服了妈妈，带她去山东一家医院看病。但医生的话像刀子一样扎在刘霆的心里：“你妈妈的病很重，双肾萎缩，最多不过再活几年了。”在回家的路上，他跟妈妈说：“你的病要开心才好，我以后一定要让你开心。”陆永敏病得很重，身上开始浮肿，高血压、贫血并发……用药后，每天下午，脸上会长出可怕的红疹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可就在疾病即将带走这个病弱的母亲时，刘霆拿到了浙江林学院的录取通知书。上大学后，谁来照顾妈妈？于是，这个男孩再一次作出了一个大胆的决定：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妈妈，我要带你去上大学！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2120" y="533520"/>
            <a:ext cx="7924320" cy="1523880"/>
            <a:chOff x="762120" y="533520"/>
            <a:chExt cx="7924320" cy="1523880"/>
          </a:xfrm>
        </p:grpSpPr>
        <p:sp>
          <p:nvSpPr>
            <p:cNvPr id="51" name=""/>
            <p:cNvSpPr/>
            <p:nvPr/>
          </p:nvSpPr>
          <p:spPr>
            <a:xfrm>
              <a:off x="762120" y="533520"/>
              <a:ext cx="7924320" cy="15238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120" y="533520"/>
              <a:ext cx="7924320" cy="15238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反复要求　如果不获批宁肯休学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开始的时候，陆永敏并不同意，她极力反对，理由很简单：儿子带着我，学习怎么能安心？同学会怎么看他？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不过，早已“当家作主”的刘霆坐在妈妈的床边，拨通了浙江林学院招生办的电话，直接提出带着妈妈上大学的要求。一次请求不行，两次；两次不行，三次……刘霆背着妈妈天天给学校打电话，他说，如果实在不行，他申请休学照顾妈妈。由于刘霆的执着，学校被打动了，而陆永敏也不得不妥协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日这一天，刘霆到浙江林学院报到，办完助学贷款手续后，就在林学院旁边找到了一间在四楼的出租房，月租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元。在小小的房子里，刘霆放置了一张花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元买来的一张一米二的床。这就是母子俩的新家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28600" y="0"/>
            <a:ext cx="6939000" cy="609480"/>
            <a:chOff x="228600" y="0"/>
            <a:chExt cx="6939000" cy="609480"/>
          </a:xfrm>
        </p:grpSpPr>
        <p:sp>
          <p:nvSpPr>
            <p:cNvPr id="54" name=""/>
            <p:cNvSpPr/>
            <p:nvPr/>
          </p:nvSpPr>
          <p:spPr>
            <a:xfrm>
              <a:off x="228600" y="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背着妈妈上大学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8487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5486400"/>
            <a:ext cx="8686440" cy="762120"/>
            <a:chOff x="0" y="5486400"/>
            <a:chExt cx="8686440" cy="762120"/>
          </a:xfrm>
        </p:grpSpPr>
        <p:sp>
          <p:nvSpPr>
            <p:cNvPr id="58" name=""/>
            <p:cNvSpPr/>
            <p:nvPr/>
          </p:nvSpPr>
          <p:spPr>
            <a:xfrm>
              <a:off x="0" y="5486400"/>
              <a:ext cx="8686440" cy="7621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5486400"/>
              <a:ext cx="8686440" cy="7621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黑乎乎的楼道里，他背着妈妈，一口气不歇地上楼去；妈妈的病床边，他为她洗衣做饭，打针喂药；课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钟，他跑回租住的屋子里，看看妈妈好不好；中午，他把他在学校食堂打工挣来的饭菜分成两半，一半自己吃，一半给妈妈吃……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838080" y="457200"/>
            <a:ext cx="7924680" cy="2286000"/>
            <a:chOff x="838080" y="457200"/>
            <a:chExt cx="7924680" cy="2286000"/>
          </a:xfrm>
        </p:grpSpPr>
        <p:sp>
          <p:nvSpPr>
            <p:cNvPr id="61" name=""/>
            <p:cNvSpPr/>
            <p:nvPr/>
          </p:nvSpPr>
          <p:spPr>
            <a:xfrm>
              <a:off x="838080" y="457200"/>
              <a:ext cx="7924680" cy="22860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457200"/>
              <a:ext cx="7924680" cy="22860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新的生活　在四楼出租房安家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“我在哪，妈妈就在哪，家就在哪”，刘霆说。办完学校的事，刘霆就把妈妈接来了。而母子俩的全部家当就是几件旧衣服，两三双别人给的旧鞋子，一只铁锅、一个电饭煲、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个碗、几床被子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从此，刘霆开始了背负妈妈上下楼的生活。无论是外出看病，还是下楼散步晒太阳，陆永敏都伏在儿子瘦瘦的背脊上，让儿子背着她。母子是心连心的，每到上楼中途，陆永敏放在儿子胸前的手总能感到快速的心跳，同时她还能听到儿子沉重的喘气声。不过，就靠儿子坚定的“背妈妈行动”，陆永敏开始了“跟着儿子念大学”的治病生活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在大学里，刘霆打工每月挣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元，外加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元的贫困户补助，家里的一切都要省吃俭用。哪怕就一块排骨，也成了母子两人眼中的美味，你推我让。而晚上，这母子俩又不得不挤到一张床上睡。开始的时候，刘霆担心妈妈睡不安稳，尽量往床边靠，半夜醒过来，看到妈妈也侧身睡在床沿，床中间空出一大块地方。原来妈妈也在担心他睡不舒服，睡觉的时候拼命把床位留出来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　　对刘霆来说，如果有未能及时完成的功课，他也只能到下了晚自习，安顿妈妈睡下之后，才能继续完成。不过，他并没有因此影响功课，事实证明刘霆上大学后的成绩依然名列前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59151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838080" y="6248520"/>
            <a:ext cx="6939000" cy="609480"/>
            <a:chOff x="838080" y="6248520"/>
            <a:chExt cx="6939000" cy="609480"/>
          </a:xfrm>
        </p:grpSpPr>
        <p:sp>
          <p:nvSpPr>
            <p:cNvPr id="65" name=""/>
            <p:cNvSpPr/>
            <p:nvPr/>
          </p:nvSpPr>
          <p:spPr>
            <a:xfrm>
              <a:off x="838080" y="624852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624852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每天为妈妈量血压，成了刘霆必做的功课之一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103400" y="1660680"/>
            <a:ext cx="6939000" cy="3536640"/>
            <a:chOff x="1103400" y="1660680"/>
            <a:chExt cx="6939000" cy="3536640"/>
          </a:xfrm>
        </p:grpSpPr>
        <p:sp>
          <p:nvSpPr>
            <p:cNvPr id="68" name=""/>
            <p:cNvSpPr/>
            <p:nvPr/>
          </p:nvSpPr>
          <p:spPr>
            <a:xfrm>
              <a:off x="1103400" y="1660680"/>
              <a:ext cx="6939000" cy="35366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03400" y="1660680"/>
              <a:ext cx="6939000" cy="35366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0" lang="zh-CN" sz="21600" spc="-1" strike="noStrike">
                  <a:solidFill>
                    <a:srgbClr val="0000ff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143000" y="6095880"/>
            <a:ext cx="6939000" cy="609480"/>
            <a:chOff x="1143000" y="6095880"/>
            <a:chExt cx="6939000" cy="609480"/>
          </a:xfrm>
        </p:grpSpPr>
        <p:sp>
          <p:nvSpPr>
            <p:cNvPr id="72" name=""/>
            <p:cNvSpPr/>
            <p:nvPr/>
          </p:nvSpPr>
          <p:spPr>
            <a:xfrm>
              <a:off x="1143000" y="609588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3000" y="6095880"/>
              <a:ext cx="6939000" cy="6094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努力读书，保持好成绩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0"/>
            <a:ext cx="8457840" cy="1371600"/>
            <a:chOff x="380880" y="0"/>
            <a:chExt cx="8457840" cy="1371600"/>
          </a:xfrm>
        </p:grpSpPr>
        <p:sp>
          <p:nvSpPr>
            <p:cNvPr id="75" name=""/>
            <p:cNvSpPr/>
            <p:nvPr/>
          </p:nvSpPr>
          <p:spPr>
            <a:xfrm>
              <a:off x="380880" y="0"/>
              <a:ext cx="8457840" cy="13716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0"/>
              <a:ext cx="8457840" cy="137160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刘霆孝心表白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“妈妈从前的日子，不能光用‘辛酸’来形容。如果再加上我不孝，那上天对她可就真是太不公平了。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“爸爸说我傻，说我跟着妈妈会一辈子吃苦的。我心想，吃苦就吃苦吧，吃苦怕什么。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“吃不饱，饿得肚子痛时，我想，妈妈病得这么重，她比我还痛。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“大家可能会觉得我苦，但我不能这样想。如果我不管我妈妈，以后会觉得后悔、自责，我不想我的人生留有遗憾。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7:59:04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55:17Z</dcterms:modified>
  <cp:revision>1</cp:revision>
  <dc:subject>主题班会课件(分28大类): http://shop62905894.taobao.com</dc:subject>
  <dc:title>主题班会课件(分28大类): http://shop62905894.taobao.com</dc:title>
</cp:coreProperties>
</file>